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54B-F855-44EF-9ED9-119D5E30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AFA-5F1E-4FE2-808C-4B797BA9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6EA96-7D1A-4DE3-9220-6D392630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B4EEF-A08C-43EB-BD8C-385B6265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885C2-9835-487C-A797-AED986AD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CC615-D076-4E3E-8560-76ADF6C9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33185-4B46-44C8-A795-AB71EA0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5A514-A460-4D6C-ADAB-8606A85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E68D3-7C99-44D6-9080-AB9A0049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C7D31-F20C-4311-863F-53E4470D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7CA7D-C4F1-4A43-9F32-F7226C73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92C9F-DBEE-4809-9067-DF3B7137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EEE-037C-47DC-BC79-674CA40B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AC500-6761-4848-944D-AB88CDAC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FE76E-0B47-4381-A6C0-187C0E63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46184-AC30-43A6-B872-88FC7FF4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F14B2-366E-4910-8AB7-F37C7F2E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7DB4B-D728-4C22-ABDC-9D61136D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10CAA-0009-4F96-9814-6B6C662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A22C5-DB6C-44A7-8DD4-5E32653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54BF7-C342-414E-A021-0A0CBCE8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B7C6A-42B0-4301-954B-FFF74AF9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A16E-BF2B-4302-BC24-3D9E7D05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D88-417B-4680-926F-490FAEB9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36422-107F-4980-9406-A754B99F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B14C8-841C-4567-AE0C-FE69F887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1F936-F316-48A4-8588-5A2FA7B7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D14E0-22BF-4D1A-A3A3-8BE9A9FE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BE18F-44EE-4F47-B7DA-B8881F3F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AB4BC-CA8A-42F7-89ED-50595FA2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13589-7C7B-4511-8AA5-C6E9F676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2A4F7-0AB9-48E1-A596-76A7D5C6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D9C10-1670-44E3-8596-A558AA0E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E0A9A-75FC-4174-97FE-1C121FE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8325-BDCD-4994-972A-92A2ADBC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26C5B-41D4-459D-95A7-588161AC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BEF3A-CFED-42A7-B3FB-771D88D9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EB5B3-D5DD-4BDE-B062-EA292DE7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9E879-6120-4852-8F9A-FCF49CE2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F1525-9841-47DF-8674-7E145C98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B5486-6C27-49AD-9615-BA796502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A5938-3D42-4471-83CE-7E4BE6AB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1660C-935A-412B-8BF4-1FA8EB4C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7B9C2-7C9C-444F-A132-95AF90D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FF105-FDC3-4B56-8BB8-0828216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F7CF-C1D1-4C5A-B82E-CA492EAA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94623-1A31-4FA9-A0D9-B7CA03E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790D7-CE8F-4D8B-8A91-6A2A2B9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4A117-411A-4629-9D2D-21E85A73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BFED5-EE57-4157-96FB-4FAD411A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DAB60-FB12-4D14-AA42-B83980D1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0AE82-93AF-466C-B71B-AACFC1E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A926E-9A5E-4D41-ACB6-680FEAA1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292E6-223F-469D-B05D-8743A3D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97646-3748-4E1C-9890-1D5B72DB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F2587-C411-4797-9E18-1F11BE5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FAA5-8651-491B-84FF-3F63B416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ACE74-4AE5-4689-BB35-B21E93CB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8DEF1-87EA-4E59-A7D9-ADB18D8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F53CE-9EC3-42BD-A303-F54344BE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3D749-3E9D-4173-9A53-6987FAD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9DB0E-30D6-4D9F-A0AA-539C3072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46F8B-A925-4F93-9DEA-7829F1AF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CC47C-40D5-4B45-9AC5-2D6A2D55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97AC1-CA39-4E75-8C23-6510BB0A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9E614-1B5B-485D-B2C6-628AF313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29BD6-4BF5-4A51-836A-523DE338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CEE7-51E0-460F-A67F-F661C624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A7316-B3F5-4533-9072-07CBC12D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CB377-C70B-4563-B9D9-F446313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284B0-99C3-4611-8BC5-1847F05D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AB8DF-24F2-46F0-B9D1-BB599A4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F70DC-854E-4995-A454-AA68284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9775A-6D3A-4D5D-BE2E-F92B65D9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E94B9-58C0-4B86-AFD9-1D1D296E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D153F-1FD5-42C3-9FA9-7B96A3FC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9F72E-39C6-467A-9CAF-B7800144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D7FA2-EA92-475A-8F1E-6B9EF8A0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F6B7-21AD-45DD-9FBE-6AC8790F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16D22-FA9B-4F36-BADA-8C339E82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E4175-12A6-4898-A8E1-1EAE6F3E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B1867-1364-4411-BB4C-1231E1D9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C3AC7-3C3A-4A01-8A57-A9213DA0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4A12B-A833-4F68-9E2F-E9404027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C72BC-41A1-4B72-B2FE-61D3C093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1C467-9F93-4E97-A10C-3354F03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FAB17-C4AA-4C26-ACA0-5ADA1C5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13063-2938-454D-AD4D-7ED13A7D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3F3C3-305B-429C-87C6-105A4562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0657-760A-477C-9555-3C7A1E00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297A3-D115-4926-A75E-153AFE1A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2546F-A970-4C80-981B-08819E07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304FB-97FB-4CFB-A38E-E3363830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FCB2C-84F0-45FD-8F00-42F6C10B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1F0E4-8563-41A7-9D26-7D6772F6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92B70-0B22-4B65-A668-BE0792CA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91ECA-5A31-4E6C-A6EE-F37DF1D1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0E105-3018-42BC-89C8-F84E32CC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97763-C608-466F-9685-43956583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66C4B-27DF-4948-8584-089D8DE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91A-2556-45A1-84B3-8D11B3F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F944B-F66B-4571-9061-9C2F3A7A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9E41E-7688-4A4A-92F7-9CC43253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97981-1810-42B8-8177-EF34A494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2F4A2-D8B5-4A8F-9719-C705229F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C4E55-7F64-424D-8C83-2F8B17F0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C5398-2E6C-4FD4-B4D8-DED33635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FFE40-30DB-4E0A-BF32-3A7A7040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1BB71-915F-4930-AF18-AC2563F4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C660B-656F-4AE5-A72F-E870AE6C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1C891-3EE9-4366-9E6F-A81207A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2F9-2701-48CF-8653-7F20A983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8747-A8A1-499B-92B1-1B64A2C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E1212-E1F9-4220-A581-E4F96C03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767A9-03FF-4611-A698-F1BF5B9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E00C9-F9A9-4E34-AA56-E12EF6C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687CF-FFF4-44B7-86F6-AC775029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63168-7116-415C-8CF1-9921AB74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5C1BEC-5BD7-4DC3-BABC-A4A77CB6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22367-B766-4800-ABD6-A728E56D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28A9A-03C4-41A3-A8EB-08179323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4829F-90FD-4665-A163-1008E3D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9A238-7077-4DB1-8DE0-66BC723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BE4A-3314-4937-B8E6-F975AF03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7C395-1343-4C92-A542-F6C10A0A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A3B8A-12D8-4BC5-BDC1-7AB7F0CE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6003C-0184-46E2-ABE7-76C33A9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BCBB4-04EE-4D3D-9C40-061E5E4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34D64-C49A-4503-86DC-EEA886C4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1110E-9732-42FF-B39C-490714C4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C40DA-92A7-446F-93A5-51C98CA6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AB775-D01F-4999-AB60-984393C7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7EBD0-A872-4D39-90B1-4995FC20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DB0BF-0511-4030-9F83-7FD74333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DBF1-3B6E-4190-8B0D-0859F516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C8CE2-F213-4BFD-AC83-D8B069A3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BFC38-99F4-45D2-A7A9-E8341D4F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A20BC-25D9-4996-958E-021B229F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DF810-7FF1-4986-9DD0-5C8FD508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A71654-7CEF-4F6B-8229-CC3E11E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48EBB-2036-4C58-8330-1E4532E9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01FA02-8C4C-43E0-9B5E-D60B11DF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F805D-84A6-4E0F-9A18-7961DA92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DE81D-38BB-4D57-A6EE-BF1C9AAD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9582C-1B90-48C5-A714-D9CF7CF5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D79B-4592-4C7C-9848-A8F064D9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F14C4-2C28-4B73-BE06-705B88B2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722D0-A07C-4F77-9E44-FE87B131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B0DBD-48E3-4989-A681-D7F95F5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EB0A3D-5651-4988-B022-8FF8569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3BA44-7498-4B53-BEA3-28E9A55F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178225-AC6F-455B-9C8B-C2BFB61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F67ED-7C5B-4B0C-8688-6D5DCE37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B837D-72A5-4B7B-AAB4-30EAFF58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B631C-093D-41F5-AE2E-1D012826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316C6-236D-40B0-9470-0B8E5845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63AF-D075-4DBC-92CA-6BD13D26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02617-AE91-4D6B-B9A7-373D783C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3DB81-BF0A-4D89-BF68-32B24B60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57640-2E11-4F08-B8AA-ADD643E9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7B5FF-5344-438B-BB48-434E8B0E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59757E-C25D-4520-91AE-297C8E2A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2A8FF-9106-4E32-B9F3-B3673F5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FA4B4-0389-43E7-B7FD-98A8BFC3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AA915B-3D84-47DA-B010-C91F50C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471EE-3381-4803-9328-ECAB242F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ED209-0E23-4B11-9FA2-F2B1BAC6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35B2-31DD-4100-A2AD-A5AD3AB0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7B2601-2745-4892-8439-101B2AA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A2EEE0-EC85-4084-9EB7-153A73C9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D2BE4-93D9-4170-9611-C5DDDC8B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4470-C8A8-49E9-8CC6-A419AAF8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F6B8-55D2-4119-B33E-350D70B0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46FB-A6E6-491C-BE3B-167E65C9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48145-4C21-4022-AF7E-5D440A8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BC8-0436-4C96-A728-7839913E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E7C2-8C6B-4B68-A60D-F9BF52D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7E65-058F-4B11-B496-7BA6F2D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E2249-7B11-4215-B318-13D24603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551F-B3E1-4968-BC48-CFF84A87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B5A5-3330-4F3E-AEE6-6C0D43F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6287-AA50-46C3-BF09-AA4C6975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16FB-5802-44EA-9CF8-F03D53FD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081C-E3DC-4E8A-A8AD-415A229A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B7FDF-B052-4FC9-BA4E-2D3F0AF6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4778-6401-4B7C-948F-B400CD05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B83-C0F1-429C-9141-D53D2DAA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7F955-EEB1-48E0-85EA-919A0F22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7AC3-7AA7-45C6-AFE1-B01A3EE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7534E-F1CD-41E7-8B07-A672EF63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611B-514F-46EE-9A16-ABA637F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7068-EF61-4E14-8B56-6D598E2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F465-09A9-4C17-BE9B-73E4C52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D3C0-B9DF-46CD-BEB8-11E862FD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7DBF-DEE6-48A4-A02D-FDAAA436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F55D0-0C53-4C87-BC17-072BE737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E8A8-5FF9-46E8-B859-1E002F8A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EEC-E564-4522-BC17-3F014B9E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253E1-8B2A-4982-A2C6-DECEC496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67EC7-9B81-4F9F-8BA5-34158D71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8A06D-3385-458B-A468-4CCDE519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88228-5928-4B5F-8174-E4854C4D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E1F3-A27E-48FF-83BD-5F150AA4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954F-BB9D-44D0-85D8-F0A29FE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0220C-ED59-4EB8-8C10-2907E04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1A5D-518F-45F4-8715-DA7E39C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AA95-87A5-46DB-B682-8D27CD74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40B09-2850-4BF9-ACA7-E7AE5241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724-1F66-4F06-9E14-76809FFD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C257-2062-4286-A543-7D78BA1B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7F35-8D06-43EC-95F8-CC916131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E790-BF4D-4EB5-BA05-E4E8C89E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8A0EC-B3D1-4544-9CCD-8C7D99E0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DFD9-7FCE-469D-8D87-2CF3EF4F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BEAB4-A4D3-4625-AA63-6E3ED255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B2C8-97E1-4349-A8B6-E13F2EE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B911-F028-4911-AD09-EBD4E3EE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05C38-E711-4F52-9090-F1F4341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794C-7A8D-45A4-B6AE-25F5F7D3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9AE-FDD7-4892-9758-93357E18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D44C7-4F14-43A1-A440-AF76ADFA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5DBE7-8931-4ACB-9257-79339A9C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6E2EC-193F-4FD4-82E6-A2D59175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1B42-7D8A-4DC2-8CE4-898EF693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9E4A-D227-4B98-BCB9-DEB86459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CC045-D890-4FA3-B4BC-A44497F5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7F724-4FA3-4D90-AE30-4B0D448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F1EBE-910D-41A2-BE85-F74DC45F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54123-9FC3-4B6D-8C9D-B249843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05E16-9887-4F00-AA8A-4843BB4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20F-9BC6-41D2-9020-95DD2E91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79C46-A6F2-4BB4-8D62-FCF95B0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CCEB-4820-4A57-A7BD-8F043B8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0B60-64BA-407E-9736-65D27A4D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A49B-72D3-451A-803C-0AD9749A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05FD9-4CA6-4408-9E12-3EF9BD6E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5DD94-CC5E-4DE6-8EF7-06A65B57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633C4-F8CE-4FBF-A665-CADB024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8EA46-6EDE-4BE6-BA2A-8352E491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68A1-6A83-4936-981F-4757C403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4FD0E-C83C-4A52-A348-10DFBC76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5AC-8CC1-41D1-80D3-29B4BFE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48C7C-98C4-4FC1-804C-45B73931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1768-3C28-4FD0-A1E9-574F0BE4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A887-85D7-465F-B99A-FE0DB5BE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0B6FF-A6A7-42E7-9D1B-4BCB7F0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57B65-E66E-406E-A6A0-2F884C0D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64421-48B1-49B0-97CB-87047185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51285-F544-43A2-A640-258F354F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B9982-85B5-43B2-97AA-65D5AD12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A969B-8B09-4C93-B0BA-7737CF96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FBAE4-FD39-4157-905F-B63B698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77CD-6307-4F7E-9316-B57AE42DB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7AB6-B1F3-4F17-B6A9-5F79A6F8F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1FCD-90E2-402B-8834-098782C987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41EB-A6F5-4140-8101-45928311DB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40FB-D2C4-4A9B-9782-0E8962FE5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1B2D-0DC4-49F3-AF2B-D48E5AABAF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70F1-FE98-44CE-AEA3-35B3F84730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29D3-360F-4BC6-A6D6-A80A8C1CB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A03A-9C24-4C91-BFFE-7BF01C656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CB4F-4344-44AB-BC3A-70F39DC6E5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77AE-B2FD-464A-B243-DCF755BCF0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F6F5-9082-43D4-BF8B-1E6233965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48B1-165A-4C05-8196-FC4B026D4E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354-105D-4A3A-9D03-65BF7A3196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39C3-09E7-46DB-A9C8-BC4125B88F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6D48-2D78-4BD7-8425-3CB7B26F01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DC26-5304-4BCC-BB7E-BBA62170A3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5748-EF1A-4C00-8226-CC1A93BC3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0A48-BD6E-4105-86FD-2C710D2B5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31E2-518D-45CD-A3B5-9C22B2770F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B914-F660-4019-808A-B8FE1C83B6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CEB2-2B77-44F7-80C1-609764F40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D097-4516-4D7E-95F7-9282BA84F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7C42-E478-48A3-8E61-BC25272EFC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01C6-1EB1-4E1E-9C32-6D758FA5D1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46AF-F036-4127-82E6-9C799CD029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D5E3-C86D-4031-8EA8-24C1A6497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E9F2-1B89-4010-8E47-7B4898A3A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C524-78B2-4442-9B1A-3AD22A282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68E5-DDE6-4D4B-85B7-D277284AAD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D302-CAEE-4551-BD16-119017B2C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BCA2-A850-4B44-AC5C-891B4FD9DF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E1C4-9A32-40B2-A8D8-23639E2DE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DC4-E3FD-4F62-B1E8-289BF1430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2502-DDA3-4841-8A55-7FC610AD32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B931-859C-4967-BC6F-9496E7D241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67A6-701A-49D7-B875-903F410DC9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D090-5404-4818-A87A-AC4B64485C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6062-9374-45A4-B0E3-82247C1DD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8DE1-72EF-4365-A9D2-775BCBB799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0040" y="3022560"/>
            <a:ext cx="86839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" descr=""/>
          <p:cNvPicPr/>
          <p:nvPr/>
        </p:nvPicPr>
        <p:blipFill>
          <a:blip r:embed="rId1"/>
          <a:stretch/>
        </p:blipFill>
        <p:spPr>
          <a:xfrm>
            <a:off x="666720" y="1409760"/>
            <a:ext cx="7810560" cy="40384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763640" y="27511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720800" y="4062240"/>
            <a:ext cx="136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81000" y="1386000"/>
            <a:ext cx="8980560" cy="4086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1476360" y="2881440"/>
            <a:ext cx="244800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3240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6804000" y="4883040"/>
            <a:ext cx="129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2" descr=""/>
          <p:cNvPicPr/>
          <p:nvPr/>
        </p:nvPicPr>
        <p:blipFill>
          <a:blip r:embed="rId1"/>
          <a:stretch/>
        </p:blipFill>
        <p:spPr>
          <a:xfrm>
            <a:off x="511200" y="863640"/>
            <a:ext cx="8342280" cy="5913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1332000" y="2147760"/>
            <a:ext cx="287964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7451640" y="21337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1116000" y="41353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3348000" y="4105440"/>
            <a:ext cx="1368360" cy="448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1042920" y="612144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7"/>
          <a:stretch/>
        </p:blipFill>
        <p:spPr>
          <a:xfrm>
            <a:off x="2843280" y="6135840"/>
            <a:ext cx="2592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47600" y="1257480"/>
            <a:ext cx="8847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047600" y="1843200"/>
            <a:ext cx="7048800" cy="3171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403280" y="378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1403280" y="4508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14480" y="1052640"/>
            <a:ext cx="8915400" cy="4752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396720" y="841320"/>
            <a:ext cx="8352000" cy="5884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566640" y="2519280"/>
            <a:ext cx="8008920" cy="18194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57240" y="1123920"/>
            <a:ext cx="9029520" cy="46101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5003640" y="229068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403280" y="29527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5364000" y="423540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258920" y="4883040"/>
            <a:ext cx="136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419040" y="774720"/>
            <a:ext cx="8305920" cy="5772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3419640" y="1859040"/>
            <a:ext cx="201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1692360" y="3803760"/>
            <a:ext cx="13669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2411280" y="5430960"/>
            <a:ext cx="3097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623880" y="971640"/>
            <a:ext cx="7894800" cy="4914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2627280" y="327024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1008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9:1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